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F52-A977-49B0-A34E-0DF7D41B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5DE-4324-4128-8D05-7E77D81D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893-D63C-4126-A6E9-BFBA0436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C45-A998-458F-8E78-675D94E0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2DE-8C7D-4D6E-AF46-1AA95545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846-8CE0-4183-BF0C-9CE7CA0C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71A-1AC5-424C-9E65-EDDC3836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B93-914D-4C8F-9BC3-0C73530F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77E-8059-443D-B5BC-CC5EF72B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153-034E-4C9A-941A-03B5440A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361-9F6D-4456-98C3-85D34C46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958-07A5-4A7E-A028-9101BEC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5418-1C29-4809-93D3-7A2EE9999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hysical Properties of Matter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. Wagenborg Grad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observed or measu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thout changing the matter’s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found by using the five senses and simple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mal Con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transf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Thermal Conductors – metal, le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6350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al Con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Thermal Conductors- Styrofoam, plast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ins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Think about which type of materials are used in coffee cups or in winter 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1841400" cy="253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1906560" cy="27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4419720"/>
            <a:ext cx="14986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ther the object is its solid liquid or gas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– Water can be ice, liquid or vap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40640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a substance can dissolve in another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Solubility- Sugar and Water or Kool Aid  Mix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Solubility – Oil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15000" y="3505320"/>
            <a:ext cx="1041480" cy="163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57400" y="4952880"/>
            <a:ext cx="10922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a substance can be pulled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Ductility- Copper- it is made into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1473120" cy="1384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24080" y="4343400"/>
            <a:ext cx="1422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an object can be rolled or  pounded into thin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Malleability – Aluminum or 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ass the matter has compa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olu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s whether an object sinks or flo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ensity- Lead,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Density-Plastic,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1435320" cy="162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43200" y="5181480"/>
            <a:ext cx="2362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2:06:18Z</dcterms:created>
  <dc:creator>School District of Philadelphia</dc:creator>
  <dc:description/>
  <dc:language>en-US</dc:language>
  <cp:lastModifiedBy>School District of Philadelphia</cp:lastModifiedBy>
  <dcterms:modified xsi:type="dcterms:W3CDTF">2011-09-25T16:28:16Z</dcterms:modified>
  <cp:revision>11</cp:revision>
  <dc:subject/>
  <dc:title>Physical Properties of Matter </dc:title>
</cp:coreProperties>
</file>